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53F-93FC-4192-A194-21B12BB9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6A1-1F4B-4676-8AF0-B9101F1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1C0-FF08-4888-B70B-A40E20CF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506-3996-46A9-93C4-C95E9ED2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B6C9-D93B-4DB1-B01E-E4C1CD22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989A-B6DD-46EA-A171-81388B6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3CD-C9DD-4024-8E03-0230638F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3165-4DB5-4EA5-80CD-9A3C2B49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2B7-F704-4D39-AFA2-A0ECE41B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865E-A68D-49E5-8785-6A6B17F0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C60-83BA-46A2-B7C4-D8C5690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579-826D-4A5A-AFF2-61A11322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2001-9D43-41B3-9102-997355CB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B00F-358C-477A-AE23-D4066D82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EEB8-105B-4FC8-8A4A-7BC6C777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7AC2-82ED-4928-8CD9-836C816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73B-A5B6-4011-A89C-6359D02D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F51-7177-49F9-AE71-9A736B6E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D92-E399-4CFE-8C34-38380B5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7C8-F101-464E-8555-B386D0C9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43E-1C75-4BC4-AF35-6F8F2FF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540-EF92-436F-A2B8-81C8B64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CE5-C26F-4262-8242-8CC9413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EB6-84AC-4890-8A01-1822917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272B-7DA9-4FFF-B41D-D703E38D96BC}" type="datetime">
              <a:rPr b="0" lang="zh-TW" sz="10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9E87-4962-43F1-B1CF-B39EFD370D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8787-B417-4C8D-A677-6E703A891F47}" type="datetime">
              <a:rPr b="0" lang="zh-TW" sz="1000" spc="-1" strike="noStrike">
                <a:solidFill>
                  <a:srgbClr val="000000"/>
                </a:solidFill>
                <a:latin typeface="Arial"/>
              </a:rPr>
              <a:t>115/0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AAE-F761-4211-8722-E638E0D05D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颱風浣熊（0801）在二零零八年四月十五日至二十日的路徑圖"/>
          <p:cNvPicPr/>
          <p:nvPr/>
        </p:nvPicPr>
        <p:blipFill>
          <a:blip r:embed="rId1"/>
          <a:stretch/>
        </p:blipFill>
        <p:spPr>
          <a:xfrm>
            <a:off x="639720" y="561960"/>
            <a:ext cx="7819920" cy="6276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61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Typhoon Neog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570564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5/04/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8400" y="274464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9/04/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97320" y="261144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A0E-1C8D-4DAE-A196-F031225BF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gsSFPNPPTTWD480_08032900N" descr=""/>
          <p:cNvPicPr/>
          <p:nvPr/>
        </p:nvPicPr>
        <p:blipFill>
          <a:blip r:embed="rId1"/>
          <a:stretch/>
        </p:blipFill>
        <p:spPr>
          <a:xfrm>
            <a:off x="6000840" y="383868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SM Forecast Initialized at 2008 0329 00 U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576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sSFPNPPTTWD384_08032900N" descr=""/>
          <p:cNvPicPr/>
          <p:nvPr/>
        </p:nvPicPr>
        <p:blipFill>
          <a:blip r:embed="rId2"/>
          <a:stretch/>
        </p:blipFill>
        <p:spPr>
          <a:xfrm>
            <a:off x="2941560" y="117324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86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gsSFPNPPTTWD408_08032900N" descr=""/>
          <p:cNvPicPr/>
          <p:nvPr/>
        </p:nvPicPr>
        <p:blipFill>
          <a:blip r:embed="rId3"/>
          <a:stretch/>
        </p:blipFill>
        <p:spPr>
          <a:xfrm>
            <a:off x="6037200" y="1152360"/>
            <a:ext cx="3143160" cy="2686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8576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sSFPNPPTTWD432_08032900N" descr=""/>
          <p:cNvPicPr/>
          <p:nvPr/>
        </p:nvPicPr>
        <p:blipFill>
          <a:blip r:embed="rId4"/>
          <a:stretch/>
        </p:blipFill>
        <p:spPr>
          <a:xfrm>
            <a:off x="-11160" y="383868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19520" y="40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sSFPNPPTTWD456_08032900N" descr=""/>
          <p:cNvPicPr/>
          <p:nvPr/>
        </p:nvPicPr>
        <p:blipFill>
          <a:blip r:embed="rId5"/>
          <a:stretch/>
        </p:blipFill>
        <p:spPr>
          <a:xfrm>
            <a:off x="2916360" y="383868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41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326232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32558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591984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592596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92596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C6D-EE19-42F1-9C28-09E471BD2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2F0-B8D5-45D5-B99D-110913AA2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12:23Z</dcterms:created>
  <dc:creator>smlee</dc:creator>
  <dc:description/>
  <dc:language>en-US</dc:language>
  <cp:lastModifiedBy>HKO</cp:lastModifiedBy>
  <dcterms:modified xsi:type="dcterms:W3CDTF">2008-12-16T08:09:28Z</dcterms:modified>
  <cp:revision>550</cp:revision>
  <dc:subject/>
  <dc:title>Progress in Adaptation of GSM</dc:title>
</cp:coreProperties>
</file>